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B6D7-801F-4E61-A02F-0B6240DB1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426A-030B-431C-8F58-B4F0BE3F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5C64-E549-49C2-BCCF-EBFBFA56E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9BC0-59B3-4598-9EF4-EAB178A87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9E48-EDD7-47F4-A982-F4D23E72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BE3E-479F-4A44-A508-87666130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9914-DC52-4107-8A68-ADB8F2A9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5BEE-72EC-475F-A1DB-34570B4C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325D-72C7-4472-8217-214A8EC5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B319-3A3C-4CA1-AA28-376E4829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F8E4-F68A-458D-A577-BBE157E1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ABA6-E925-4076-B52C-42932020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50D1-FA9D-4F7A-914B-C341A5EDFC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e81679.cgm"/>
          <p:cNvPicPr/>
          <p:nvPr/>
        </p:nvPicPr>
        <p:blipFill>
          <a:blip r:embed="rId1"/>
          <a:stretch/>
        </p:blipFill>
        <p:spPr>
          <a:xfrm>
            <a:off x="477720" y="0"/>
            <a:ext cx="8188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18:10:12Z</dcterms:created>
  <dc:creator>RJKNAPIK</dc:creator>
  <dc:description/>
  <dc:language>en-US</dc:language>
  <cp:lastModifiedBy>gcmyers</cp:lastModifiedBy>
  <dcterms:modified xsi:type="dcterms:W3CDTF">2010-03-05T17:03:58Z</dcterms:modified>
  <cp:revision>1</cp:revision>
  <dc:subject/>
  <dc:title>Slide 1</dc:title>
</cp:coreProperties>
</file>